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1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24-5782-4071-80C5-9E7B4522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70B-C344-4D1D-8782-181ADE72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4BD-3BAB-407F-A52E-237D339E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88A-8204-4195-AF39-5CE0DBE8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B73-B214-4A0F-B953-89F9B97E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E13-A746-4624-84B2-1113BAE4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B54-F983-4305-AC55-A287DA5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177-75B7-4D84-8AF9-F4F64DAB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B7D-A9E0-4D63-A8CE-992DCE4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B3E-25DC-49DB-AF38-1FF7E76F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5CC-A6A2-48EE-A1E5-E4109895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314-E9AB-4890-8078-AEEF4725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lano_fundo"/>
          <p:cNvPicPr/>
          <p:nvPr/>
        </p:nvPicPr>
        <p:blipFill>
          <a:blip r:embed="rId2"/>
          <a:stretch/>
        </p:blipFill>
        <p:spPr>
          <a:xfrm>
            <a:off x="3240" y="-146160"/>
            <a:ext cx="9137520" cy="715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EDF-60D1-4D62-932F-323AC24AB092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553440" cy="463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MOMENTO DE REFLEXÃO</a:t>
            </a:r>
            <a:r>
              <a:rPr b="0" lang="en-US" sz="1600" spc="-1" strike="noStrike">
                <a:solidFill>
                  <a:srgbClr val="00b000"/>
                </a:solidFill>
                <a:latin typeface="Arial"/>
              </a:rPr>
              <a:t>     </a:t>
            </a:r>
            <a:br>
              <a:rPr sz="1600"/>
            </a:br>
            <a:endParaRPr b="0" lang="en-US" sz="16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" name="Rectangle 3"/>
          <p:cNvGraphicFramePr/>
          <p:nvPr/>
        </p:nvGraphicFramePr>
        <p:xfrm>
          <a:off x="2556000" y="6381720"/>
          <a:ext cx="417492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6381720"/>
                    <a:ext cx="4174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3534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Acompanhamento das atividades desenvolvidas pelos PS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urso LINUX E Windows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Projeto Brasil Ponto a Ponto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27280" y="630864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630864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424720" cy="53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é-inscrição – curso de 100h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rganização das inscrições – Introdução à Sala de Aula Virtual – Aula inaugural do curso de 100 horas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4852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companhamento das atividades programadas nos projetos de ensino (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2º SEMESTRE</a:t>
            </a:r>
            <a:br>
              <a:rPr sz="4800"/>
            </a:b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3760" y="1998720"/>
            <a:ext cx="5368680" cy="3333600"/>
            <a:chOff x="1823760" y="1998720"/>
            <a:chExt cx="5368680" cy="3333600"/>
          </a:xfrm>
        </p:grpSpPr>
        <p:sp>
          <p:nvSpPr>
            <p:cNvPr id="115" name="_s49158"/>
            <p:cNvSpPr/>
            <p:nvPr/>
          </p:nvSpPr>
          <p:spPr>
            <a:xfrm>
              <a:off x="3830400" y="2471760"/>
              <a:ext cx="1355400" cy="1355760"/>
            </a:xfrm>
            <a:prstGeom prst="ellipse">
              <a:avLst/>
            </a:prstGeom>
            <a:solidFill>
              <a:srgbClr val="00b000">
                <a:alpha val="50000"/>
              </a:srgbClr>
            </a:solidFill>
            <a:ln w="46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49159"/>
            <p:cNvSpPr/>
            <p:nvPr/>
          </p:nvSpPr>
          <p:spPr>
            <a:xfrm>
              <a:off x="3830400" y="1998720"/>
              <a:ext cx="135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UEM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49160"/>
            <p:cNvSpPr/>
            <p:nvPr/>
          </p:nvSpPr>
          <p:spPr>
            <a:xfrm>
              <a:off x="4346280" y="2987640"/>
              <a:ext cx="1355400" cy="135576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49161"/>
            <p:cNvSpPr/>
            <p:nvPr/>
          </p:nvSpPr>
          <p:spPr>
            <a:xfrm>
              <a:off x="5837040" y="3497040"/>
              <a:ext cx="13554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49169"/>
            <p:cNvSpPr/>
            <p:nvPr/>
          </p:nvSpPr>
          <p:spPr>
            <a:xfrm>
              <a:off x="3830400" y="3503520"/>
              <a:ext cx="1355400" cy="1355760"/>
            </a:xfrm>
            <a:prstGeom prst="ellipse">
              <a:avLst/>
            </a:prstGeom>
            <a:solidFill>
              <a:srgbClr val="ffe701">
                <a:alpha val="50000"/>
              </a:srgbClr>
            </a:solidFill>
            <a:ln w="4680">
              <a:solidFill>
                <a:srgbClr val="ffe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49170"/>
            <p:cNvSpPr/>
            <p:nvPr/>
          </p:nvSpPr>
          <p:spPr>
            <a:xfrm>
              <a:off x="3830400" y="4994280"/>
              <a:ext cx="135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49162"/>
            <p:cNvSpPr/>
            <p:nvPr/>
          </p:nvSpPr>
          <p:spPr>
            <a:xfrm>
              <a:off x="3314520" y="2987640"/>
              <a:ext cx="1355400" cy="1355760"/>
            </a:xfrm>
            <a:prstGeom prst="ellipse">
              <a:avLst/>
            </a:prstGeom>
            <a:solidFill>
              <a:srgbClr val="ffe701">
                <a:alpha val="50000"/>
              </a:srgbClr>
            </a:solidFill>
            <a:ln w="4680">
              <a:solidFill>
                <a:srgbClr val="ffe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49163"/>
            <p:cNvSpPr/>
            <p:nvPr/>
          </p:nvSpPr>
          <p:spPr>
            <a:xfrm>
              <a:off x="1823760" y="3497040"/>
              <a:ext cx="13554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3" name="Rectangle 3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JULH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Cronograma de ações 2 º semestre (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400"/>
                            </p:stCondLst>
                            <p:childTnLst>
                              <p:par>
                                <p:cTn id="2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00"/>
                </a:solidFill>
                <a:latin typeface="Arial"/>
              </a:rPr>
              <a:t>AGOSTO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8880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I Encontro de PSTE: experiências de formação docente “professor formando professor” 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III encontro presencial do curso “Ensinando e Aprendendo com as TIC” 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 (UEMS – 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Os professores das séries iniciais em foco (UEMS - 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Visita às escolas (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rojetos de ensino interdisciplinares entre professor da STE e professor regente, uma perspectiva vygotskyana (STE) (15/08</a:t>
            </a: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SET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(NTE - STE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abri Geometri e utilitários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Acompanhamento e orientação na execução dos projetos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ATAC III (N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75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cffff"/>
                </a:solidFill>
                <a:latin typeface="Arial"/>
              </a:rPr>
              <a:t>Construção colaborativa de coletânea de sites úteis para apoio e orientação pedagógica (NTE - ST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7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7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7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OUTU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Curso “Como Elaborar Projetos de Ensino Interdisciplinares” (STE – Professor Regen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rojetos de ensino interdisciplinares entre professores regentes: uma perspectiva vygotskyana (Professor regent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6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NOV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companhamento e orientação aos projetos em execução na escola (NTE – S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00"/>
                            </p:stCondLst>
                            <p:childTnLst>
                              <p:par>
                                <p:cTn id="3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00"/>
                </a:solidFill>
                <a:latin typeface="Arial"/>
              </a:rPr>
              <a:t>DEZEMBRO</a:t>
            </a:r>
            <a:endParaRPr b="0" lang="en-US" sz="48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85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 Workshop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de professores multiplicadores e professores regentes das escolas jurisdicionadas ao NTE de Nova Andrad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Rectangle 3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70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GRUPO COMO UNO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graphicFrame>
        <p:nvGraphicFramePr>
          <p:cNvPr id="49" name="Rectangle 3"/>
          <p:cNvGraphicFramePr/>
          <p:nvPr/>
        </p:nvGraphicFramePr>
        <p:xfrm>
          <a:off x="2700360" y="6381720"/>
          <a:ext cx="417528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175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1332000" y="1413000"/>
            <a:ext cx="6337080" cy="4651920"/>
            <a:chOff x="1332000" y="1413000"/>
            <a:chExt cx="6337080" cy="4651920"/>
          </a:xfrm>
        </p:grpSpPr>
        <p:grpSp>
          <p:nvGrpSpPr>
            <p:cNvPr id="52" name=""/>
            <p:cNvGrpSpPr/>
            <p:nvPr/>
          </p:nvGrpSpPr>
          <p:grpSpPr>
            <a:xfrm>
              <a:off x="2268360" y="5300640"/>
              <a:ext cx="5400720" cy="764280"/>
              <a:chOff x="2268360" y="5300640"/>
              <a:chExt cx="5400720" cy="764280"/>
            </a:xfrm>
          </p:grpSpPr>
          <p:sp>
            <p:nvSpPr>
              <p:cNvPr id="53" name=""/>
              <p:cNvSpPr/>
              <p:nvPr/>
            </p:nvSpPr>
            <p:spPr>
              <a:xfrm>
                <a:off x="2268360" y="530064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Arial"/>
                  </a:rPr>
                  <a:t>72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60360" y="5734080"/>
                <a:ext cx="64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08360" y="530064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3366"/>
                    </a:solidFill>
                    <a:latin typeface="Arial"/>
                  </a:rPr>
                  <a:t>5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48000" y="57340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24360" y="530064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22.000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332000" y="1413000"/>
              <a:ext cx="6049800" cy="3671280"/>
              <a:chOff x="1332000" y="1413000"/>
              <a:chExt cx="6049800" cy="367128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2844720" y="141264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914560" y="3588840"/>
                <a:ext cx="3711960" cy="1495440"/>
              </a:xfrm>
              <a:custGeom>
                <a:avLst/>
                <a:gdLst>
                  <a:gd name="textAreaLeft" fmla="*/ 649440 w 3711960"/>
                  <a:gd name="textAreaRight" fmla="*/ 2691360 w 371196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32000" y="304488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TEC      NTE        ST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432160" y="365616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0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08280" y="3452040"/>
                <a:ext cx="0" cy="20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289040" y="365616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9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95320" y="3452040"/>
                <a:ext cx="0" cy="20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214680" y="365616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82720" y="3385080"/>
                <a:ext cx="137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20600" y="3385080"/>
                <a:ext cx="0" cy="27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OBJETIVO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258920" y="1413000"/>
            <a:ext cx="6626160" cy="4464000"/>
            <a:chOff x="1258920" y="1413000"/>
            <a:chExt cx="6626160" cy="44640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258920" y="1413000"/>
              <a:ext cx="66261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71480" y="3769920"/>
              <a:ext cx="91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2320" y="4634280"/>
              <a:ext cx="91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7480" y="3312000"/>
              <a:ext cx="91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OTE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6840" y="1989720"/>
              <a:ext cx="182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PROFES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04080" y="3138480"/>
              <a:ext cx="305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ffff"/>
                  </a:solidFill>
                  <a:latin typeface="Arial"/>
                </a:rPr>
                <a:t>ALUNOS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08600" y="4460760"/>
              <a:ext cx="73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8" name="Rectangle 3"/>
          <p:cNvGraphicFramePr/>
          <p:nvPr/>
        </p:nvGraphicFramePr>
        <p:xfrm>
          <a:off x="2700360" y="6381720"/>
          <a:ext cx="417528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6381720"/>
                    <a:ext cx="4175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COMO AVANÇAR?</a:t>
            </a: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161" name="Rectangle 3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256200" cy="198756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3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273672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3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324036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Rectangle 3"/>
          <p:cNvGraphicFramePr/>
          <p:nvPr/>
        </p:nvGraphicFramePr>
        <p:xfrm>
          <a:off x="2556000" y="6572160"/>
          <a:ext cx="403848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657216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100"/>
                            </p:stCondLst>
                            <p:childTnLst>
                              <p:par>
                                <p:cTn id="3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00"/>
                            </p:stCondLst>
                            <p:childTnLst>
                              <p:par>
                                <p:cTn id="3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100"/>
                            </p:stCondLst>
                            <p:childTnLst>
                              <p:par>
                                <p:cTn id="3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90560" y="1413000"/>
            <a:ext cx="47530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Qual nossa funçã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Que caminho tom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de est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Onde queremos chega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0" y="260280"/>
            <a:ext cx="4424400" cy="45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Como lidar com a diferença com base na compreensão de nós mesmos como outros(...)”</a:t>
            </a:r>
            <a:endParaRPr b="0" lang="en-US" sz="32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4029120" cy="41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19640" y="3429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m é o out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771640" y="6381720"/>
          <a:ext cx="4038840" cy="28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6381720"/>
                    <a:ext cx="40388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9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00"/>
                </a:solidFill>
                <a:latin typeface="Arial"/>
              </a:rPr>
              <a:t>Conseguimos responder estes questionamentos</a:t>
            </a:r>
            <a:endParaRPr b="0" lang="en-US" sz="4400" spc="-1" strike="noStrike">
              <a:solidFill>
                <a:srgbClr val="00b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43367" t="35636" r="28507" b="19358"/>
          <a:stretch/>
        </p:blipFill>
        <p:spPr>
          <a:xfrm>
            <a:off x="844560" y="1776240"/>
            <a:ext cx="7608960" cy="42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Rectangle 3"/>
          <p:cNvGraphicFramePr/>
          <p:nvPr/>
        </p:nvGraphicFramePr>
        <p:xfrm>
          <a:off x="3132000" y="6453360"/>
          <a:ext cx="3024360" cy="21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6453360"/>
                    <a:ext cx="3024360" cy="21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9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61672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556000" y="6381720"/>
          <a:ext cx="417492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00" y="6381720"/>
                    <a:ext cx="4174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332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...Nossas ideologias e representações sociais influenciam na nossa maneira de ver o contexto em que estamos inserido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081240" cy="28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700360" y="6453360"/>
          <a:ext cx="4038480" cy="28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6453360"/>
                    <a:ext cx="40384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5400" spc="-1" strike="noStrike">
                <a:solidFill>
                  <a:srgbClr val="00b000"/>
                </a:solidFill>
                <a:latin typeface="Arial"/>
              </a:rPr>
              <a:t>1º SEMESTRE</a:t>
            </a:r>
            <a:br>
              <a:rPr sz="5400"/>
            </a:br>
            <a:endParaRPr b="0" lang="en-US" sz="5400" spc="-1" strike="noStrike">
              <a:solidFill>
                <a:srgbClr val="00b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92" name="_s46102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b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46103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46105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46100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46101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46104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8" name="Rectangle 3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277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Reunião com os professores das STEs e professores multiplicadores do N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Visita às escolas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ccffff"/>
                </a:solidFill>
                <a:latin typeface="Arial"/>
              </a:rPr>
              <a:t>Orientação aos PSTE (N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6-27T13:07:04Z</dcterms:modified>
  <cp:revision>188</cp:revision>
  <dc:subject/>
  <dc:title>TECNOLOGIAS NA ESCOLA</dc:title>
</cp:coreProperties>
</file>